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349-F372-4A36-A473-DD01B658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B4C-997E-4F84-9907-352BE6D5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9E9-42B2-40BB-A40C-DB1FFF4D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EE6-550E-4C75-BF05-39583797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5DE-83E7-4448-B08E-9DAFA007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5E6-5B4C-421C-9C2E-27FFD596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D4A-5F1A-4117-84FA-9F4F2F7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FD3-1780-412F-A22B-F3FFD8E2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B0D-D9A3-4982-B163-0C2FF9ED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BF6-B274-4B6F-BB86-8672AB94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117-EE12-4B82-ABF6-3C147E84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568-D4E9-42DF-867A-1B40E9B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0FE6-AFBB-49AA-8B74-E2B8A70C9D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Chapter 6- Trends Related to Fertility and Fecun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340000" y="2004840"/>
            <a:ext cx="662472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6948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6948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aths now outnumber bir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ross Canada only NWT and Nunavut show birth rates above th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placement level - # of births required to maintain a                    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tabl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se Study Pg 177-1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s # 1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Chapte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y the end of the chapter, you would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Demonstrate and understanding of the relationship between fecundity and culture (age at marriage, average # of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lain the physiological impact of the choice of whether or not to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te the social impact of current birth patterns on Canadian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6.1 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9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rth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pulation rates now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omen having fewe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pulation itself is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ed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alling Bir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95% of world population growth is happening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324000" y="1523880"/>
            <a:ext cx="8362800" cy="4602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3933720"/>
            <a:ext cx="414036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4284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etting the Stage: World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ual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ecun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ility to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ed world’s population is shr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f the developed nations, only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replacing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pulation through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vels of immigration and fer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68360" y="3429000"/>
            <a:ext cx="197676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rends in Developed and Developing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place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6875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Jason</cp:lastModifiedBy>
  <dcterms:modified xsi:type="dcterms:W3CDTF">2011-01-04T14:31:21Z</dcterms:modified>
  <cp:revision>22</cp:revision>
  <dc:subject/>
  <dc:title>Diapositiva 1</dc:title>
</cp:coreProperties>
</file>